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7746-EADA-4826-AD4C-B161CA34E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A69D-615B-4D86-9600-EBCE862EB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7261-8E51-4B16-91FE-D2FB4164C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A7C4-B8C4-4092-808A-FC8FB6247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148F-1B12-43D4-B5B7-10BD2FEDD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2313-4E75-4450-A47F-33863DD08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AEBC-507B-4D1D-9090-55834A88B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6AE9-8612-4065-81F3-5B7924D688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E498-DD70-4B40-9EE2-D8B177F3CE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D028-39CB-437C-B80C-3DA067D231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48AD-2DEF-4214-83DD-2150F53020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F333-44FD-4216-A514-8B018A44E7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310E-0877-4BA6-BFB4-2AF64F82F6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5531-1E2B-4E66-8CD9-669948D78A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ECD7-F1BD-4832-9E14-14D1F5AAA1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6221-4219-4C97-AF77-496D01ADCF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119F-D698-4F1F-8C46-759E47E17B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C370-05F9-4D11-9F72-2330F65BCF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1C4B-D276-407B-9527-FC83B23F7C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D2C0-5E63-48AB-A332-46A7B54E32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C494-9438-42B7-958F-2EFA01F97C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391D-0CF0-460D-9C0F-25216CDC0A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F0A1-6C27-41EF-A08B-681FDF890AE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1218A-DB42-4FCA-A0C3-707B81DA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5A3E5-FD0C-4E04-95D1-4F9CA5D9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91E1B-5F4A-4A4E-998B-D98BD5B6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0591C-AB2D-4238-81AB-DAE2D5B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7AB04-E427-4C88-B035-19595907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AA1C1-7B1A-43C3-9B30-C5A6BB2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E8800-A0F1-4B31-AB65-F225087D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28B27-C39B-4164-8C86-505D0762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B4FF3-36E3-4768-8243-A4419629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AC5B-20BD-43C0-9439-21E0365BC3E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2882C-9C12-4DA3-84E3-70D32444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4EF4A-5891-4C1A-B8D5-8C9F176E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4DA07-7326-4316-AADC-746071E6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0D5B-300D-4567-8E51-CFACC8A67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71A9-F48C-4C5F-91E0-C08C38D9F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A805-2FA2-4860-AAF5-2F473688F1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56DD-8E7E-4AA2-9A29-68021ABB11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87C8-70B2-4CD5-9E94-258EDBE325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1 group work re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120" y="35812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hirou, Sibiry, Gatien, Joseph, Naomie, Jerome, Anni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1 Construction of development domains within and across the project mega-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development domains developed so far by IFPRI require more granular data to become relevant within the GS megasite, including: ethnic/linguistic layers, livestock density, LGP, landscape physiography / ele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dure already applied for Ghana can be replicated in Mali and improved with feedback to Gh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Chris) will continue to lead that activity until complete, including field visits to be organized in conjunction with activity 1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Sibiry) will provide supplementary granular data to IFPRI (Chris) for stratification and domain delineation within the GS mega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Eva) will help organize Mali field visits by IFPRI (Chris) before end of Dec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2 Identification of action research sites within the development domains of each mega-sit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statement in project document on consultation with local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identify Mali units of analysis similar to Ghana district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rc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rrondissem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cteur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mmu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y can be executed concurrently with 1.1 (development domai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participants should include: Carlo, Chris, Sibiry, Larbi, Tahir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idging the scale gap in site selection should not only be through partners / expert opinion but also informed by more granular GIS data (cf. 1.1 abo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felt that there is flexibility still possible in action and/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ontro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ites finalization in UER and N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3 Establishment of R4D platform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Tanzania, Malawi and Ghana, need to review and inventory current FtF investments in Mali – where are they made, who was contracted for platform establishment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portunity to expand existing innovations platforms into R4D platforms (more dynamic, proa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treatment site where there is no R4D platform (control sites will be selected outside the intervention domain of R4D platfor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ali, potential scale mismatch between administrative divisions and critical mass of villages for R4D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4 Collect baseline information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HH survey instrument for the BL? What level of customization for AR objectives / approach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sue of subcontracting for BL survey administration: IPA or likes? Level of subcontracting? Training onl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will not be used to revise action / control site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may be used to guide deployment of technology-based interventions (agronomy/farm-level) but likely not process-based interventions (community/landscape-lev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5 Construction of farm household typologi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Naomie) will lead with IITA (Bernard) inputs for CRP1.2 areas and ICRISAT (Gatien) inputs for CRP1.1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6 Inventorize innovation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7 Identification and prioritization of innovations addressing major constrain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modeling?? -&gt; participatory scenario analysis (to avoid over-commitme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3232"/>
                </a:solidFill>
                <a:latin typeface="Calibri"/>
              </a:rPr>
              <a:t>Sequencing, responsibility, funding of O1 activities</a:t>
            </a:r>
            <a:endParaRPr b="0" lang="en-US" sz="29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981000"/>
          <a:ext cx="8218440" cy="5770800"/>
        </p:xfrm>
        <a:graphic>
          <a:graphicData uri="http://schemas.openxmlformats.org/drawingml/2006/table">
            <a:tbl>
              <a:tblPr/>
              <a:tblGrid>
                <a:gridCol w="3319560"/>
                <a:gridCol w="650880"/>
                <a:gridCol w="576000"/>
                <a:gridCol w="576360"/>
                <a:gridCol w="576360"/>
                <a:gridCol w="719280"/>
                <a:gridCol w="649080"/>
                <a:gridCol w="11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Domains: IFPRI-Chris (L)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Sites: IFPRI-Carlo (L), IFPRI-Chris, IITA-Larbi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Platforms: IITA-Larbi (L), ICRISAT-Eva (co-L), ICRAF-Joach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Baselines: IFPRI-Carlo (L), IFPRI-M&amp;E officer, IITA-Tahirou, ICRAF-Joachim, ICRISAT-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Typologies: IFPRI-Naomie (L), IITA-Bernard, ICRISAT-Gat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CRP1.1/1.2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Innovations: IITA-Larbi (L), ICRISAT-Eva (co-L), M&amp;E offi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 Prioritizations: IITA-Larbi (L), ICRISAT-Eva (co-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0T10:21:02Z</dcterms:modified>
  <cp:revision>20</cp:revision>
  <dc:subject/>
  <dc:title>Slide 1</dc:title>
</cp:coreProperties>
</file>